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07F2-1FC3-42A7-AFF7-7B19514DA0F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Quincy Ada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w Jacks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ry Cla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Harris Crawfo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 of 18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ohn Quincy Adam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rew Jackso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nry Cla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lliam Harris Crawford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ection of 182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 of 18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ection of 182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 of 18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ection of 182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E756-57D5-45FA-9D50-87AB02BD5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D6CA-8971-4FB9-BF91-E524666B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ABC1-B86D-487D-A2E5-A3A2182A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C42D-0CF9-460C-8267-334D2A0B2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2136-83CF-4BCF-A94F-63ED599A7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64BA-654C-413D-B34C-EFB9F5C9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297F-A189-44AB-8F7D-B572860B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8D51-38CA-448C-926C-1E0B183A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445B-2B50-4AEA-8D53-3BC3ED71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FA15-7F18-4784-ACC6-B7AEDACF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C5E8-19C7-452A-9EF6-B9370652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369E-0CE3-48AA-85D6-43E3CE0F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6BE3-E716-435D-AEC2-0F2B4626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1EAD-DA97-4FE7-87D5-227D32E3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CE5B-625A-4881-AF6D-C3CC2D1C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AFEB-B09B-4CCE-B66E-E1C8557B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C3D5-F4AC-4E79-A316-E66479E53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9109-EFBC-47FA-857A-F7C17466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5273-0CDE-4EF4-B427-EA29C5FC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CF60-7F4E-48DE-B8CB-00DC6F87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4FBC-3BE9-42B1-8D47-BCEFC099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88FE-E10C-4CE2-92BE-A135C6C5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C53D-99F5-48D3-A573-DF9DC6BB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96B0-1D74-481F-B29A-80EF4933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A6CE-945E-43F8-B577-E4E51E6AC78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FA2B-2547-4737-B1FD-977D63B976C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John Quincy Adams"/>
          <p:cNvPicPr/>
          <p:nvPr/>
        </p:nvPicPr>
        <p:blipFill>
          <a:blip r:embed="rId1"/>
          <a:stretch/>
        </p:blipFill>
        <p:spPr>
          <a:xfrm>
            <a:off x="304920" y="228600"/>
            <a:ext cx="2438280" cy="19540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215280" y="2513520"/>
            <a:ext cx="31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ohn Quincy Adam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1813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10" descr="Henry Clay"/>
          <p:cNvPicPr/>
          <p:nvPr/>
        </p:nvPicPr>
        <p:blipFill>
          <a:blip r:embed="rId2"/>
          <a:stretch/>
        </p:blipFill>
        <p:spPr>
          <a:xfrm>
            <a:off x="457200" y="3886200"/>
            <a:ext cx="2666880" cy="2157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William Harris Crawford"/>
          <p:cNvPicPr/>
          <p:nvPr/>
        </p:nvPicPr>
        <p:blipFill>
          <a:blip r:embed="rId3"/>
          <a:stretch/>
        </p:blipFill>
        <p:spPr>
          <a:xfrm>
            <a:off x="5562720" y="3886200"/>
            <a:ext cx="2590560" cy="2057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Andrew Jackson"/>
          <p:cNvPicPr/>
          <p:nvPr/>
        </p:nvPicPr>
        <p:blipFill>
          <a:blip r:embed="rId4"/>
          <a:stretch/>
        </p:blipFill>
        <p:spPr>
          <a:xfrm>
            <a:off x="5715000" y="304920"/>
            <a:ext cx="2666880" cy="217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5"/>
          <p:cNvSpPr/>
          <p:nvPr/>
        </p:nvSpPr>
        <p:spPr>
          <a:xfrm>
            <a:off x="5905800" y="2589840"/>
            <a:ext cx="26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drew Jacks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1031040" y="6125040"/>
            <a:ext cx="1888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nry Cla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5000400" y="617112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illiam Harris Crawfor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2133720" y="327672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Election of 182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image4"/>
          <p:cNvPicPr/>
          <p:nvPr/>
        </p:nvPicPr>
        <p:blipFill>
          <a:blip r:embed="rId1"/>
          <a:stretch/>
        </p:blipFill>
        <p:spPr>
          <a:xfrm>
            <a:off x="0" y="1752480"/>
            <a:ext cx="4051440" cy="4876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image1"/>
          <p:cNvPicPr/>
          <p:nvPr/>
        </p:nvPicPr>
        <p:blipFill>
          <a:blip r:embed="rId2"/>
          <a:stretch/>
        </p:blipFill>
        <p:spPr>
          <a:xfrm>
            <a:off x="4438800" y="380880"/>
            <a:ext cx="4502160" cy="53341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304920" y="380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Election of 182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1824"/>
          <p:cNvPicPr/>
          <p:nvPr/>
        </p:nvPicPr>
        <p:blipFill>
          <a:blip r:embed="rId1"/>
          <a:stretch/>
        </p:blipFill>
        <p:spPr>
          <a:xfrm>
            <a:off x="762120" y="228600"/>
            <a:ext cx="7848360" cy="63374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image2"/>
          <p:cNvPicPr/>
          <p:nvPr/>
        </p:nvPicPr>
        <p:blipFill>
          <a:blip r:embed="rId1"/>
          <a:stretch/>
        </p:blipFill>
        <p:spPr>
          <a:xfrm>
            <a:off x="4495680" y="0"/>
            <a:ext cx="4800600" cy="4422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image5"/>
          <p:cNvPicPr/>
          <p:nvPr/>
        </p:nvPicPr>
        <p:blipFill>
          <a:blip r:embed="rId2"/>
          <a:stretch/>
        </p:blipFill>
        <p:spPr>
          <a:xfrm>
            <a:off x="0" y="1600200"/>
            <a:ext cx="4441680" cy="49528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304920" y="380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Election of 182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032-360580_m_07_01"/>
          <p:cNvPicPr/>
          <p:nvPr/>
        </p:nvPicPr>
        <p:blipFill>
          <a:blip r:embed="rId1"/>
          <a:stretch/>
        </p:blipFill>
        <p:spPr>
          <a:xfrm>
            <a:off x="914400" y="210960"/>
            <a:ext cx="7848720" cy="6647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13:45:03Z</dcterms:created>
  <dc:creator>dgreenberg</dc:creator>
  <dc:description/>
  <dc:language>en-US</dc:language>
  <cp:lastModifiedBy>Legion</cp:lastModifiedBy>
  <dcterms:modified xsi:type="dcterms:W3CDTF">2017-07-05T12:39:06Z</dcterms:modified>
  <cp:revision>10</cp:revision>
  <dc:subject/>
  <dc:title>Slide 1</dc:title>
</cp:coreProperties>
</file>